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3BB1-DC44-432B-B546-7B17B37DD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84BB-11B4-4B44-8E77-F7882481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0853-1782-4E44-A722-BB1063896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6E10-7512-4F18-81E6-9BA9D3E54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708C-9214-4DFE-B7B8-7381799A1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D3B6-0AB0-42F8-BA50-E1EF7848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5509-48A4-4335-9AD4-5A15905C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423E-D86D-407A-85FD-43FF1886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B5C1-03B8-40E9-8703-89AE0FDC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2FEF-86D4-44EB-BF0E-ECD5CBAE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E921-D9FE-4380-BEA1-F7494EF7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5AAB-9E53-4CB4-871D-F371C5BE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82BD2-6693-4274-811E-EEBEEA03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2D1E-EA8C-41B1-9530-D39C2E71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BCFA-1143-4C46-96A7-35956E66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2F1E-DDC8-4D67-967D-8163324FB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860C-6922-44BB-ABB9-F28170C68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99E2-B8ED-4E8F-9841-7E51DD09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C3AA-185D-4559-A476-A90992FC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0800-D864-4CCE-BE67-736EDA1D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D9BC-BA2E-4C8C-BB09-8BD6B4DE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EAC9-3145-4339-94F6-44EB8625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EE90-8AC7-4DC3-A9CC-8D9B8423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601D-1952-4265-BB42-C75CF158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C22F-6E32-450B-8E8F-A9DFA23AE41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4F1B-01C7-47E7-819A-E3B9D9C777B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k.youtube.com/watch?v=37ssHa0Vqwg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bc.co.uk/radio4/womanshour/05/2008_28_wed.shtml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arning Englis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ession 3 How do people learn other languages?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s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ok at different types of language learning material and try to classify them according to pedagog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ch material do you like best? Wh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od language learn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helps language learning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llig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ptitu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rsona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tiv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ttitu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arner preferen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arner belief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h yeah bab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seems to be the underlying theory of language acquisition applied by this auntie?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uk.youtube.com/watch?v=37ssHa0Vqw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omen’s Hou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sten to the recording and answer the following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is the job of person being interviewed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is she at the Sure Start centr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ich of the theories of language acquisition does she seem to favour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do the young mums learn?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bbc.co.uk/radio4/womanshour/05/2008_28_wed.shtm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ories of second language acquisiti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ehaviour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natism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formation Processing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teraction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haviouris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ve rise t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Listen and repe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rilling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Target language inpu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Focus on pronunci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Language laborator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Innatis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Gave rise t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Krashen’s highly influential theories of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acquisition vs.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input hypothe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affective filter hypothe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natural order hypothe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monitor hypothe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gnitive Process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ave rise t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Noticing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ractice’ as in learners working hard to understand how the language wor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Interactionis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Modified interaction (e.g. clarification requests, comprehension checks, repetition/paraphras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Scaffolding’ (after Vygotsky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edagogies of second language teaching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udio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otal immersion and content teaching (Suggestopedi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ask-based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mmunicative language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(Grammar Translation still followed in many places!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A</cp:lastModifiedBy>
  <dcterms:modified xsi:type="dcterms:W3CDTF">2008-10-17T11:48:4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